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B0C-DFD6-402C-8724-D1DDB5BC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086-0E83-4DEE-92E3-97996FB7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9AE-FE4F-471D-A4E8-5A1399D8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88E-2774-4C9B-A2E6-4AF2AC9B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F53-427C-4121-8750-E2413287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D76-89E4-4E9B-8150-0B8CFDFA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0C1-FE0B-40CA-AA69-1BCCC190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DB7-B57A-472D-B8A1-01BE3B97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A99-A90F-408C-8849-A2D23EE6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721-CE1F-46F2-A6D9-BEDD22DA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176-692E-40C1-962C-703AFE5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339-BBE5-40CC-97E4-AFB7D2CC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D097-BC0F-46D6-8A55-41392672D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Unit 8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have a p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Section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形标注 8"/>
          <p:cNvSpPr/>
          <p:nvPr/>
        </p:nvSpPr>
        <p:spPr>
          <a:xfrm>
            <a:off x="4648320" y="2362320"/>
            <a:ext cx="4343400" cy="1407960"/>
          </a:xfrm>
          <a:prstGeom prst="wedgeEllipseCallout">
            <a:avLst>
              <a:gd name="adj1" fmla="val -23111"/>
              <a:gd name="adj2" fmla="val 6752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507960" y="3287880"/>
            <a:ext cx="2049480" cy="2593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4876920" y="4191120"/>
            <a:ext cx="1942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n anim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形标注 8"/>
          <p:cNvSpPr/>
          <p:nvPr/>
        </p:nvSpPr>
        <p:spPr>
          <a:xfrm>
            <a:off x="4648320" y="2362320"/>
            <a:ext cx="4343400" cy="1407960"/>
          </a:xfrm>
          <a:prstGeom prst="wedgeEllipseCallout">
            <a:avLst>
              <a:gd name="adj1" fmla="val -23111"/>
              <a:gd name="adj2" fmla="val 6752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194292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67" name="矩形标注 1"/>
          <p:cNvSpPr/>
          <p:nvPr/>
        </p:nvSpPr>
        <p:spPr>
          <a:xfrm>
            <a:off x="3219480" y="2971800"/>
            <a:ext cx="55627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have a duc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2" descr=""/>
          <p:cNvPicPr/>
          <p:nvPr/>
        </p:nvPicPr>
        <p:blipFill>
          <a:blip r:embed="rId3"/>
          <a:stretch/>
        </p:blipFill>
        <p:spPr>
          <a:xfrm>
            <a:off x="2971800" y="4648320"/>
            <a:ext cx="196704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72" name="矩形标注 1"/>
          <p:cNvSpPr/>
          <p:nvPr/>
        </p:nvSpPr>
        <p:spPr>
          <a:xfrm>
            <a:off x="3219480" y="2971800"/>
            <a:ext cx="55627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have a co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" descr=""/>
          <p:cNvPicPr/>
          <p:nvPr/>
        </p:nvPicPr>
        <p:blipFill>
          <a:blip r:embed="rId3"/>
          <a:stretch/>
        </p:blipFill>
        <p:spPr>
          <a:xfrm>
            <a:off x="2803680" y="4419720"/>
            <a:ext cx="205740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圆角矩形标注 9"/>
          <p:cNvSpPr/>
          <p:nvPr/>
        </p:nvSpPr>
        <p:spPr>
          <a:xfrm>
            <a:off x="282600" y="1447920"/>
            <a:ext cx="4952880" cy="122076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76" name="矩形标注 1"/>
          <p:cNvSpPr/>
          <p:nvPr/>
        </p:nvSpPr>
        <p:spPr>
          <a:xfrm>
            <a:off x="3219480" y="2971800"/>
            <a:ext cx="56959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have a rabb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"/>
          <p:cNvPicPr/>
          <p:nvPr/>
        </p:nvPicPr>
        <p:blipFill>
          <a:blip r:embed="rId2"/>
          <a:stretch/>
        </p:blipFill>
        <p:spPr>
          <a:xfrm>
            <a:off x="3048120" y="4363920"/>
            <a:ext cx="1636560" cy="196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4986360" y="4495680"/>
            <a:ext cx="1779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82" name="矩形标注 1"/>
          <p:cNvSpPr/>
          <p:nvPr/>
        </p:nvSpPr>
        <p:spPr>
          <a:xfrm>
            <a:off x="4495680" y="2971800"/>
            <a:ext cx="34099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yello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2971800" y="4648320"/>
            <a:ext cx="196704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圆角矩形标注 9"/>
          <p:cNvSpPr/>
          <p:nvPr/>
        </p:nvSpPr>
        <p:spPr>
          <a:xfrm>
            <a:off x="304920" y="1141560"/>
            <a:ext cx="49528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87" name="矩形标注 1"/>
          <p:cNvSpPr/>
          <p:nvPr/>
        </p:nvSpPr>
        <p:spPr>
          <a:xfrm>
            <a:off x="5029200" y="2793960"/>
            <a:ext cx="297180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blu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3"/>
          <a:stretch/>
        </p:blipFill>
        <p:spPr>
          <a:xfrm>
            <a:off x="2895480" y="3835440"/>
            <a:ext cx="19306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圆角矩形标注 9"/>
          <p:cNvSpPr/>
          <p:nvPr/>
        </p:nvSpPr>
        <p:spPr>
          <a:xfrm>
            <a:off x="304920" y="1141560"/>
            <a:ext cx="601956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he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34880" y="3276720"/>
            <a:ext cx="2324160" cy="3047760"/>
          </a:xfrm>
          <a:prstGeom prst="rect">
            <a:avLst/>
          </a:prstGeom>
          <a:ln w="0">
            <a:noFill/>
          </a:ln>
        </p:spPr>
      </p:pic>
      <p:sp>
        <p:nvSpPr>
          <p:cNvPr id="92" name="矩形标注 1"/>
          <p:cNvSpPr/>
          <p:nvPr/>
        </p:nvSpPr>
        <p:spPr>
          <a:xfrm>
            <a:off x="4267080" y="2793960"/>
            <a:ext cx="441972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the do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3"/>
          <a:srcRect l="0" t="0" r="0" b="14085"/>
          <a:stretch/>
        </p:blipFill>
        <p:spPr>
          <a:xfrm>
            <a:off x="3000240" y="4191120"/>
            <a:ext cx="204480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圆角矩形标注 9"/>
          <p:cNvSpPr/>
          <p:nvPr/>
        </p:nvSpPr>
        <p:spPr>
          <a:xfrm>
            <a:off x="304920" y="1141560"/>
            <a:ext cx="6324480" cy="1527120"/>
          </a:xfrm>
          <a:prstGeom prst="wedgeRoundRectCallout">
            <a:avLst>
              <a:gd name="adj1" fmla="val -33462"/>
              <a:gd name="adj2" fmla="val 82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he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标注 1"/>
          <p:cNvSpPr/>
          <p:nvPr/>
        </p:nvSpPr>
        <p:spPr>
          <a:xfrm>
            <a:off x="3200400" y="2793960"/>
            <a:ext cx="5715000" cy="1066680"/>
          </a:xfrm>
          <a:prstGeom prst="wedgeRectCallout">
            <a:avLst>
              <a:gd name="adj1" fmla="val -8828"/>
              <a:gd name="adj2" fmla="val 84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don’t like snak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971800" y="4354560"/>
            <a:ext cx="205740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33520" y="3327480"/>
            <a:ext cx="1904760" cy="330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559480" y="4329000"/>
            <a:ext cx="17794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8377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228564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将重点词汇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，重点句型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和同桌将本课对话进行多次操练，直至熟练程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宋体"/>
                <a:ea typeface="宋体"/>
              </a:rPr>
              <a:t>词汇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Times New Roman"/>
                <a:ea typeface="宋体"/>
              </a:rPr>
              <a:t>vocabula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3" descr=""/>
          <p:cNvPicPr/>
          <p:nvPr/>
        </p:nvPicPr>
        <p:blipFill>
          <a:blip r:embed="rId1"/>
          <a:stretch/>
        </p:blipFill>
        <p:spPr>
          <a:xfrm>
            <a:off x="1682640" y="2712960"/>
            <a:ext cx="57722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57440" y="2285640"/>
            <a:ext cx="289548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c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3243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00240" y="228600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co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1062000" y="1876320"/>
            <a:ext cx="403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7440" y="22860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rabb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81120" y="2438280"/>
            <a:ext cx="2971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宋体"/>
              </a:rPr>
              <a:t>duck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rcRect l="7315" t="-1867" r="2721" b="8504"/>
          <a:stretch/>
        </p:blipFill>
        <p:spPr>
          <a:xfrm>
            <a:off x="914400" y="1306440"/>
            <a:ext cx="38386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81120" y="243792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turtle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" descr=""/>
          <p:cNvPicPr/>
          <p:nvPr/>
        </p:nvPicPr>
        <p:blipFill>
          <a:blip r:embed="rId1"/>
          <a:srcRect l="0" t="0" r="0" b="4252"/>
          <a:stretch/>
        </p:blipFill>
        <p:spPr>
          <a:xfrm>
            <a:off x="1081080" y="1981080"/>
            <a:ext cx="411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1120" y="243792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snake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523880" y="1765440"/>
            <a:ext cx="36576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宋体"/>
                <a:ea typeface="宋体"/>
              </a:rPr>
              <a:t>对话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Times New Roman"/>
                <a:ea typeface="宋体"/>
              </a:rPr>
              <a:t>Dialo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0:33:09Z</dcterms:created>
  <dc:creator/>
  <dc:description/>
  <dc:language>en-US</dc:language>
  <cp:lastModifiedBy/>
  <dcterms:modified xsi:type="dcterms:W3CDTF">2015-07-21T05:20:11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